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B5D-0451-4946-85D4-21B8E708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A1E-A255-4742-9B6F-75EAF2DA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9CCB4-BAB7-4006-AC51-D9646A7B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4E77F-FCB1-4D34-AA3D-54EEBB37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07741-5979-4207-A3DC-C210AA86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E6870-0B48-4433-BB80-D715B94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DED5C-2857-4C3F-8FB2-6C4185A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9EE4D-EDE9-4487-ACF8-2B9AF39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506C2-C45E-4AE1-B9BD-10A8A424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B9CAF-4DF7-4CA6-9B49-56E2102E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B3503-2685-4B96-BE80-44769673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38AB4-5867-4833-81E9-50C1A8EA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2D3-4046-4A22-9C58-626F4BFC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DAC9C-5677-4008-B767-4B1CD2A7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C860B-07C0-4F23-BC3C-0A9B6B85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F6FFF-1BE8-4069-BC6F-93872522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4FB7B-D491-47E1-86C3-CA0B4DA9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6B0D7-92B7-4460-B306-5830672C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4EC7A-65A9-4EC2-9A3A-BD88AF4F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EBE93-4BD7-4DD8-9759-B4C5AC1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61794-1FF9-4AB9-8087-CCE6ED76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BE7B9-7BDB-4780-A34B-CE27E38C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CBE65-EDCC-4406-801D-A2DB2344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212-CB9E-41AF-BD5F-8625D689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1C419-B6FB-4F16-BB8A-0D72F91D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0BB44-E88E-4247-AFA8-DF472685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719D7-B6DB-4E70-BB0D-B68984A0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4EBB6-B425-4B88-B5C0-429F8EEB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E5AA7-EC25-4C5A-92BA-274327F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23CA8-CB80-4FB6-BE85-3B7E94C7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DD66A-E389-4864-8CC1-13A6230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0BF02-0B18-486C-A933-E3619178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D58E7-CDD8-478D-82D2-A55100C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68C07-1D95-4131-B7C3-5C48AA8D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F49B-08AD-45DD-94DA-0D993D5C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DC346-58B9-4EFE-9D36-A7294299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F6677-E5CF-4CCE-B90E-8519620A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35232-06EC-48BF-812F-D1A1D6B0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79BCD-4AD3-477B-A3B0-45D75F7D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065D9-D666-4C1C-A583-81EEECF9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FBFFE-63EC-4062-A2BC-DD28873B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7CE47-C7E9-4316-96D0-5DF31306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1990D-BA44-4F67-B7D7-27811B34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2740E-81AB-4962-A425-33101860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82052-9ADE-4F3E-928A-132020A1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8EC3-7820-4D8D-A571-C1BD4EB2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D37BE-0576-4DCE-A3B0-F1E2C5B2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A06C3-BE5C-4B25-9071-5FC68207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FB939-9204-40EC-A0A0-4BAF35E9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F2D82-A57A-41E3-8944-98456678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9BEB0-28DA-474D-B7BD-CDB76368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A8CB9-4F09-4E3B-8524-20D882D5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7A442-CE9A-476F-A8DE-02DEE939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01090-8408-4177-84A9-AEA50E07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A1018-B514-448A-96A9-D3F29C7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D9BD5-BE2E-448D-8192-940339B4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4440-1961-4A12-8508-35FC9849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825AE-681E-4384-B82C-DCAD4204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2B6CA-7928-4A67-974F-4005F125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357A7-0108-435F-A528-0E3E293E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EC739-AEC7-432D-AAAC-920E7FDB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EBC6C-9042-4EA1-BE04-381BDA9A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673B0-A60A-4AB8-BEE3-E27F1FAE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065BE-879A-4C49-9FAA-64DC5198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1E380-83B4-4795-9043-4B9CA7E9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C00C1-265B-4324-B1D1-3908E9B1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E5A89-F44A-4F6D-BF14-85877554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8B7B-48C3-4AE2-86E8-30EEB5E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4B8D5-A27A-4B1D-827A-2601AD6F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F3646-B493-4D47-81FD-8CF32108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01D1B-9942-4D4B-B1D9-64120B55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1BBD1-4A1E-4454-A308-CBE2589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88CB9-31E9-4CDC-B8CC-964A2160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0BDFE-116B-448F-96C1-632F4196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6C684-D146-4E17-B4AE-BF1E64E3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D7191-C0CF-4E93-9525-55854C4E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96566-F32C-474F-9BC6-3949B0AD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54AC8-B444-40EB-A881-404A2BA8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7935-2B01-484A-A3CB-D92EBB03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99F49-7708-4648-8D62-BAE2D811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E6412-14A4-425B-A075-2DC6519D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A64CB-5CC2-4679-B10A-64D9A4AF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6563C-2086-437F-B094-0FA5157A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BBA21-32C2-435A-8714-60C40668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59B4F-207E-42DC-A1CE-E0B56FCB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F44AF-FFA2-45C6-931F-D971C41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73D31-265D-4487-AD39-7364D45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34F384-CB5B-423C-A923-E68A2AE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BCC63-224A-4E9E-99D7-822F828D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D930-B916-4BFA-9EE7-09E94819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30EF8-43B9-4590-8551-C2320EA5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5785A-48FC-47A7-B7F3-8DE586A2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F3EC0-E589-4E8D-9C06-5EC811DD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36C45-9B57-46C8-B7CA-AC1927D3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61A03-8A9D-4030-B545-2A3E57EB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48738-AE69-4774-AD87-143EFA2F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A96F2-9987-4C60-971F-CA33B550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CB913-3D9A-412A-8BB8-0DBDCBA6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3313B-7DE4-4C18-AD4B-B9250D0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FF1CB-7B83-4D7E-A363-0D8C870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B14D-DF30-4C8A-87AA-BB7EAEFB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61CC7-78C0-45B1-8D01-22B4F47B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5E38A-DA7E-4728-82ED-8497905C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F8026-EE75-44CF-93C7-790F62C4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EEA5A-FC6C-4B89-B2C7-E4C3A928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AB4AB-3202-4C6B-94DB-7F9DC722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AB452-07F3-41D8-B122-DC7251A9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2E399-7605-458D-B0CD-7459EA64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1734D-DBF1-43FA-B29E-362F9298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D0AC6-62E6-4751-B6FA-4ECF4A83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9C23E-46B6-4714-9645-2BD45B11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BBF-8A12-48A7-BDB7-A77C78D6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C834-33A6-438A-BAF4-72FBE07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3F65B-2B5E-4C65-8F7C-469D2CF8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18161-EC5E-49AD-903B-ECDE95DB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7C236-4370-4921-9531-13A3B2A7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DE5FC-E40D-4106-B6AB-20264F28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ECA7E-A163-492B-8725-311FAC02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7C9BB-FBE8-4400-A9C9-996C9ACF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8126A-2AC2-4E48-974C-CF4ECCA7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37549-42C9-4970-9534-9006EC69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85EAD-7E61-4C1C-A58C-D453885C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0FE5E-FECF-41E9-B475-000768C0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C55D-5741-40E5-BDB4-A0FE833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830EF-4CF1-4E53-8449-8E84CBA6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7732D-8865-4CA4-AB5D-38555CA6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E7B60-0AE9-43F5-8A94-A9F7FB28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974BD-1868-4BB0-AF2A-0BEA2B5D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E4A10-6A65-4DF1-A014-D1DF9DBD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D8F017-8702-4A4C-B353-D7861DC4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F3ED7-E157-4DB8-8F29-D8E9ADAE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7FCC6-9C8B-4A7D-A0C4-C252952D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D8EA23-ED74-47A1-B50B-D8F44945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7B2E5-E4D4-4A3B-870A-20FEE8D9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D83F-7E96-4591-9ECE-128E0DAE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71402-5279-4385-9915-5CE63ABA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BCFCBD-19F4-4E5E-ACCE-D19967EF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BE886-D26D-47CD-A75D-2734F75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FC8C26-EF7C-4A46-9C0F-16CB77E2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32118-5843-41EB-9DEA-CC21F73E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E0BAE-1F85-4A34-8C84-450E0E9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FC0C4-274E-4099-A20C-76337B4E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C0E6C-C9EA-41CE-86A3-44E6614D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C4742-F798-4D4A-895E-DA72C98C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EE823-2EAA-4D86-8015-20A29013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9159-EA18-473E-BE58-A47A264A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5BFD2-E4A4-4188-AFE0-E075D19E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A92866-CAA6-4E7A-9E53-949F767E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C7D4E8-78D2-4534-A1A2-C6792F7B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65CD2-7ED8-43E8-ADA0-224ACCDC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4F407-D17B-4CFD-89A8-690557B9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A1D1C-0C4C-4E3F-8111-7C4F976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D4A12-F0E8-4D9B-BEAF-F52881F1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49657-9B10-4EBF-B037-03C3322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8F817-2E88-4312-9A71-C5E76491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DC49A-C95C-4EDF-BB32-382D2193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2389-1243-4504-BDFA-8651AF52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47EDF0-0BF9-44FB-960D-C8DB963E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3A7BA-92A4-4800-883D-50F2F42D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9E852-9A53-48DB-88D7-7D6DC053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01BBB-8B19-484D-98B8-8462C882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1021E1-470F-4C1D-9FA4-85FCE6C9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0B447-560D-41D4-88CD-4CFE5571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6E2E89-F410-4F1D-BCD9-578C4127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6ED7BA-0DFB-4C5D-B5E4-C5F91B59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CE2D9-F78A-4873-8D93-E876F18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5EC332-DEEA-4400-8EDE-64BDB3D6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34F8-123F-4A20-A0A8-7031AD7F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A3FFEF-4EF2-4E9F-92C9-45ABE084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426B0D-9D65-4F6A-8ABA-B0A724B6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F29DA-9493-481C-B0C7-184A8AB8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CEEE-8846-4657-B315-F2F60B7B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5588-A27F-4032-8559-7E44CD62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22FC-621A-4B7C-8876-A57A61B8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319F-5CA0-4C0D-A605-3EDFA350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2CF-F572-4D0A-9625-5E4A235E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4C87-7C88-4A9C-AE68-757E5252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39EB-0EDA-4140-936F-74E8AEA1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C46F-5105-43ED-9B0F-2C2AEF1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7F296-6E23-488C-B160-BBC7D16E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9FF9-7F8C-4893-AC8F-1AC14F3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D178-09B4-4B36-B738-6EAC5544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C681-AE13-4C54-AD33-502E8C85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F80B-F41F-4E1E-BB7B-616462CB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BA3F-F5DD-4E7B-800C-1674CEFE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3554-0055-408E-8DE2-17D252AF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0F2-3668-4178-81A3-BF69AB7B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1D00F-50DB-491B-A187-778B2C73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E7587-4332-414C-80E1-4F439CB1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0426-EB1E-463C-A3FD-5364903E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1517-5245-4AB3-8465-4A5F24E1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5EC4E-E983-4581-8471-753A644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D191-0F7A-4EDA-8494-017900A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F671-42A2-4A4B-9955-61A588A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7E80-5716-46BC-9556-0957D1E1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817F-FC99-408D-8331-1B4B7038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373C2-523C-435F-889B-1F252966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BCA-3F64-46CB-B2F9-3DA3C387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A3DEB-B354-48F6-BBBB-252A23ED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0EA26-5DDE-4841-B8F8-2DD9A11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3988C-BE00-46BE-A5DA-CA740EC2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BD461-72DE-493A-BA72-BDB719F8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5F7F-27BB-4440-9958-F5308FAD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27213-A6E2-4435-83DA-1D10A610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ABC6-0F9C-45A5-9D87-E23FAF4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9EEE-8617-4096-8A91-1724BD0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4735-ABD8-4BE6-AE17-B546F81D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45189-5D45-4164-8B28-5F035F84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55D-9574-4816-AB25-D1CB8897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61FEE-56F8-46C7-84D3-CE1CF665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4333-6FDC-4F8C-AB52-347E985F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93619-7AFE-45CA-86C4-C2A09E7C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4FD34-EF0D-47B0-AA18-F425A136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8557-F7EA-45AB-AD0E-8853BE9B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1568-9A09-434F-A8D3-002DEAA7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FDF66-D859-4927-8921-D1614BBE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C2337-4431-4350-821D-F3B73F3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64C43-528B-4AB5-A245-16A00BE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E88DF-0FC2-4A1E-9141-67695941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B02-E8D5-41E4-99B1-525C537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9AB77-11B6-484D-8980-ED718925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31BBF-E18F-4A4F-8395-525E78EA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B8705-B02E-4C97-BC38-871DF729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8D74E-7F1E-46C2-A1AC-2F047C67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EE91A-F680-450A-820D-F5795B31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4D96-FDAA-43FF-AECA-AD96C110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9B25E-59F4-4BB9-8F6A-838C2F57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38908-E191-49A2-8615-2BA008C4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FC484-2E39-4303-B475-1DAB14F9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9F4B-E835-4077-A9E4-52889F48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A14-6D62-4CE1-8D11-C82A9150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4C854-C84B-4AE1-A057-AB60A516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DCB03-7750-4244-BC71-32B274E2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D5F43-E200-4AF4-8AED-17071337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94C7A-E506-42BC-9B7A-CAC1EBF9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44738-78F3-44AE-9DA3-B347708F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438B4-F339-49CF-A46C-631EB32A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39566-3EC7-4805-B1A5-4144C81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75F4-80E1-4319-AE71-02A51908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15FA0-AF30-43E3-A1BC-D5BBB792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80194-726F-46B6-A866-71198469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6CC-1AC4-42BF-B739-CF4F7F9C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83418-FA06-4977-BA01-BC67EBB4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6DD24-248E-4CC6-9883-6437FAF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B57D8-89CE-49D9-A3AA-E063ED4F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65E06-A273-43E3-9113-8BB0ADF5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DF6BD-0996-4426-8A6F-B41EAB9B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7C5C2-A3A1-4E06-9D7A-B535E0A0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C7A4A-A5C2-46C6-BD91-81FE939D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39A0F-A9F4-4E35-AD26-E9E95439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F618B-EB0F-4D98-8311-85CAA933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7675D-7843-4FD7-AA26-FE87E5A0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2220-FD8A-472F-89E6-59647F9DF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04D-ED7E-4F6F-AA6B-C7CD173385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30A5-2907-4BDA-AFFE-3ECED681E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1F97-EEA7-4E72-83D0-B0DF61525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0B86-B16C-416A-8DCF-00B43424DD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7A0A-C148-4EF2-8C0C-3F794053A7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C6D1-AA15-46F2-ABFD-F660DB867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92C1-0544-4A24-BA47-EE1A94E96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36DF-AD4A-41BD-B649-B1E44CA4EC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6C88-3B85-4D5C-8B0F-AEFCC30385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A793-5E40-42EE-9DCB-60AA1BAA6D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A6D1-33FD-4BD9-86FC-6F48C8A7E1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3552-CC1F-4A31-904C-F1985D841F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5067-0F26-449A-A29C-DE1E7BB00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4270-EC32-4DE7-9511-D11CCA527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F47E-4ADE-461D-A80F-BFE949B669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92CC-0E74-4250-AC26-15AF56C69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263B-9225-4104-A5CD-AB2D7103B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7E7-A1C8-4464-AA9E-F1D581DB62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D991-46CA-41EF-889E-BA5EE47DF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2C85-C139-48A2-8C2B-46F78D2838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BEF2-6670-4539-B2E1-E30A691B51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9F7B-C32A-453F-A59D-E6F73C4AC1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573F-E57D-4D8A-89E7-3CC8771E12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9EEA-EA8B-45AC-92B7-16BACAF08E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D9D3-A898-4C58-9D12-B4C1511B05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87EC-1C85-482D-984C-B905DB85FA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ABE9-2D9F-4D78-87A3-A8E7402E5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A21-B716-4312-B2F3-7C815D110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BD9E-F142-495F-9E7D-DC8AABF212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CA4-6112-40DC-869D-128776A13F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6708-9C3C-4CA1-9B80-3B3026D68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BEF4-17F0-45BB-AA8B-70545CA456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6245-8997-4AED-B436-2CFED7CE2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8A08-B8C7-4D6D-9ED3-20F5DAD277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3AC-D29E-45EA-A141-8D6F4197C2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8A7B-F8BF-40D3-8ED7-521900F089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C0F1-4C50-45AB-89CE-499710DF9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8334-527A-40AD-92EC-446246F0C4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2E00-FFA7-475F-B94B-B0E3C3CFC3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90360" y="2610000"/>
            <a:ext cx="896328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Picture 1" descr=""/>
          <p:cNvPicPr/>
          <p:nvPr/>
        </p:nvPicPr>
        <p:blipFill>
          <a:blip r:embed="rId1"/>
          <a:stretch/>
        </p:blipFill>
        <p:spPr>
          <a:xfrm>
            <a:off x="371520" y="1125360"/>
            <a:ext cx="8400960" cy="33242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2" descr=""/>
          <p:cNvPicPr/>
          <p:nvPr/>
        </p:nvPicPr>
        <p:blipFill>
          <a:blip r:embed="rId2"/>
          <a:stretch/>
        </p:blipFill>
        <p:spPr>
          <a:xfrm>
            <a:off x="755640" y="4500720"/>
            <a:ext cx="7229520" cy="19526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3"/>
          <a:stretch/>
        </p:blipFill>
        <p:spPr>
          <a:xfrm>
            <a:off x="3143160" y="1781280"/>
            <a:ext cx="785880" cy="3157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4"/>
          <a:stretch/>
        </p:blipFill>
        <p:spPr>
          <a:xfrm>
            <a:off x="4286160" y="1785960"/>
            <a:ext cx="1357560" cy="3157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5"/>
          <a:stretch/>
        </p:blipFill>
        <p:spPr>
          <a:xfrm>
            <a:off x="2122560" y="2773440"/>
            <a:ext cx="785880" cy="3157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6"/>
          <a:stretch/>
        </p:blipFill>
        <p:spPr>
          <a:xfrm>
            <a:off x="3214800" y="2781360"/>
            <a:ext cx="785880" cy="3157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7"/>
          <a:stretch/>
        </p:blipFill>
        <p:spPr>
          <a:xfrm>
            <a:off x="4286160" y="2781360"/>
            <a:ext cx="1143000" cy="3157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8"/>
          <a:stretch/>
        </p:blipFill>
        <p:spPr>
          <a:xfrm>
            <a:off x="2449440" y="3768840"/>
            <a:ext cx="785880" cy="3157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9"/>
          <a:stretch/>
        </p:blipFill>
        <p:spPr>
          <a:xfrm>
            <a:off x="3525840" y="3768840"/>
            <a:ext cx="1000080" cy="3157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10"/>
          <a:stretch/>
        </p:blipFill>
        <p:spPr>
          <a:xfrm>
            <a:off x="3857760" y="4786200"/>
            <a:ext cx="1000080" cy="31608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11"/>
          <a:stretch/>
        </p:blipFill>
        <p:spPr>
          <a:xfrm>
            <a:off x="3760920" y="5786280"/>
            <a:ext cx="78552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5" name="Picture 1" descr=""/>
          <p:cNvPicPr/>
          <p:nvPr/>
        </p:nvPicPr>
        <p:blipFill>
          <a:blip r:embed="rId1"/>
          <a:stretch/>
        </p:blipFill>
        <p:spPr>
          <a:xfrm>
            <a:off x="228600" y="2373480"/>
            <a:ext cx="8686800" cy="24955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2"/>
          <a:stretch/>
        </p:blipFill>
        <p:spPr>
          <a:xfrm>
            <a:off x="836640" y="27781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3"/>
          <a:stretch/>
        </p:blipFill>
        <p:spPr>
          <a:xfrm>
            <a:off x="811080" y="31575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4"/>
          <a:stretch/>
        </p:blipFill>
        <p:spPr>
          <a:xfrm>
            <a:off x="811080" y="37670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5"/>
          <a:stretch/>
        </p:blipFill>
        <p:spPr>
          <a:xfrm>
            <a:off x="811080" y="41860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6"/>
          <a:stretch/>
        </p:blipFill>
        <p:spPr>
          <a:xfrm>
            <a:off x="811080" y="460548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3" name="Picture 1" descr=""/>
          <p:cNvPicPr/>
          <p:nvPr/>
        </p:nvPicPr>
        <p:blipFill>
          <a:blip r:embed="rId1"/>
          <a:stretch/>
        </p:blipFill>
        <p:spPr>
          <a:xfrm>
            <a:off x="176040" y="1646280"/>
            <a:ext cx="8791920" cy="3943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8786880" cy="3160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3"/>
          <a:stretch/>
        </p:blipFill>
        <p:spPr>
          <a:xfrm>
            <a:off x="357120" y="3092400"/>
            <a:ext cx="8786880" cy="3160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4"/>
          <a:stretch/>
        </p:blipFill>
        <p:spPr>
          <a:xfrm>
            <a:off x="357120" y="3798720"/>
            <a:ext cx="8786880" cy="3160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5"/>
          <a:stretch/>
        </p:blipFill>
        <p:spPr>
          <a:xfrm>
            <a:off x="357120" y="4521240"/>
            <a:ext cx="8786880" cy="315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6"/>
          <a:stretch/>
        </p:blipFill>
        <p:spPr>
          <a:xfrm>
            <a:off x="357120" y="5240160"/>
            <a:ext cx="878688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1" name="Picture 1" descr=""/>
          <p:cNvPicPr/>
          <p:nvPr/>
        </p:nvPicPr>
        <p:blipFill>
          <a:blip r:embed="rId1"/>
          <a:stretch/>
        </p:blipFill>
        <p:spPr>
          <a:xfrm>
            <a:off x="114480" y="1339920"/>
            <a:ext cx="8915400" cy="46101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2"/>
          <a:stretch/>
        </p:blipFill>
        <p:spPr>
          <a:xfrm>
            <a:off x="1017720" y="4206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3"/>
          <a:stretch/>
        </p:blipFill>
        <p:spPr>
          <a:xfrm>
            <a:off x="992160" y="4586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4"/>
          <a:stretch/>
        </p:blipFill>
        <p:spPr>
          <a:xfrm>
            <a:off x="992160" y="49291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5"/>
          <a:stretch/>
        </p:blipFill>
        <p:spPr>
          <a:xfrm>
            <a:off x="992160" y="5286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6"/>
          <a:stretch/>
        </p:blipFill>
        <p:spPr>
          <a:xfrm>
            <a:off x="992160" y="571500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3443400" y="1052640"/>
            <a:ext cx="2257200" cy="2476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2"/>
          <a:stretch/>
        </p:blipFill>
        <p:spPr>
          <a:xfrm>
            <a:off x="324000" y="1509840"/>
            <a:ext cx="8391240" cy="4295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328680" y="6126120"/>
            <a:ext cx="8486640" cy="542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971640" y="1857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5316480" y="1857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933480" y="32148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7"/>
          <a:stretch/>
        </p:blipFill>
        <p:spPr>
          <a:xfrm>
            <a:off x="5329080" y="32097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8"/>
          <a:stretch/>
        </p:blipFill>
        <p:spPr>
          <a:xfrm>
            <a:off x="950760" y="45291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123840" y="1960560"/>
            <a:ext cx="8896320" cy="3124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755640" y="23320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730080" y="27115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730080" y="31100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730080" y="35002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730080" y="38577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147600" y="1841400"/>
            <a:ext cx="8848800" cy="1086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2"/>
          <a:stretch/>
        </p:blipFill>
        <p:spPr>
          <a:xfrm>
            <a:off x="476280" y="2960640"/>
            <a:ext cx="8534520" cy="1981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2643120" y="2197080"/>
            <a:ext cx="982800" cy="3160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3303720" y="2579760"/>
            <a:ext cx="982440" cy="315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155680" y="2928960"/>
            <a:ext cx="982800" cy="315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2214720" y="3298680"/>
            <a:ext cx="1442880" cy="3160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7"/>
          <a:stretch/>
        </p:blipFill>
        <p:spPr>
          <a:xfrm>
            <a:off x="3127320" y="3672000"/>
            <a:ext cx="98280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481560" y="1424160"/>
            <a:ext cx="2180880" cy="276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324000" y="2649600"/>
            <a:ext cx="7334280" cy="2219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954000" y="29876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928800" y="33670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928800" y="37656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6"/>
          <a:stretch/>
        </p:blipFill>
        <p:spPr>
          <a:xfrm>
            <a:off x="928800" y="4143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7"/>
          <a:stretch/>
        </p:blipFill>
        <p:spPr>
          <a:xfrm>
            <a:off x="928800" y="450072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824040" y="1684440"/>
            <a:ext cx="7495920" cy="40482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2"/>
          <a:stretch/>
        </p:blipFill>
        <p:spPr>
          <a:xfrm>
            <a:off x="1441440" y="20210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3"/>
          <a:stretch/>
        </p:blipFill>
        <p:spPr>
          <a:xfrm>
            <a:off x="1450800" y="27986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4"/>
          <a:stretch/>
        </p:blipFill>
        <p:spPr>
          <a:xfrm>
            <a:off x="1438200" y="35416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5"/>
          <a:stretch/>
        </p:blipFill>
        <p:spPr>
          <a:xfrm>
            <a:off x="1428840" y="42688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6"/>
          <a:stretch/>
        </p:blipFill>
        <p:spPr>
          <a:xfrm>
            <a:off x="1450800" y="502920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114480" y="1247760"/>
            <a:ext cx="8915400" cy="372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2" descr=""/>
          <p:cNvPicPr/>
          <p:nvPr/>
        </p:nvPicPr>
        <p:blipFill>
          <a:blip r:embed="rId2"/>
          <a:stretch/>
        </p:blipFill>
        <p:spPr>
          <a:xfrm>
            <a:off x="468360" y="4992840"/>
            <a:ext cx="7381800" cy="10285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3"/>
          <a:stretch/>
        </p:blipFill>
        <p:spPr>
          <a:xfrm>
            <a:off x="714240" y="16178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4"/>
          <a:stretch/>
        </p:blipFill>
        <p:spPr>
          <a:xfrm>
            <a:off x="714240" y="27608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5"/>
          <a:stretch/>
        </p:blipFill>
        <p:spPr>
          <a:xfrm>
            <a:off x="714240" y="3470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6"/>
          <a:stretch/>
        </p:blipFill>
        <p:spPr>
          <a:xfrm>
            <a:off x="714240" y="4613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7"/>
          <a:stretch/>
        </p:blipFill>
        <p:spPr>
          <a:xfrm>
            <a:off x="714240" y="532764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Picture 1" descr=""/>
          <p:cNvPicPr/>
          <p:nvPr/>
        </p:nvPicPr>
        <p:blipFill>
          <a:blip r:embed="rId1"/>
          <a:stretch/>
        </p:blipFill>
        <p:spPr>
          <a:xfrm>
            <a:off x="700200" y="1092240"/>
            <a:ext cx="7743600" cy="3705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2" descr=""/>
          <p:cNvPicPr/>
          <p:nvPr/>
        </p:nvPicPr>
        <p:blipFill>
          <a:blip r:embed="rId2"/>
          <a:stretch/>
        </p:blipFill>
        <p:spPr>
          <a:xfrm>
            <a:off x="1116000" y="4896000"/>
            <a:ext cx="6819840" cy="16286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3"/>
          <a:stretch/>
        </p:blipFill>
        <p:spPr>
          <a:xfrm>
            <a:off x="1328760" y="14288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4"/>
          <a:stretch/>
        </p:blipFill>
        <p:spPr>
          <a:xfrm>
            <a:off x="1319040" y="3143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5"/>
          <a:stretch/>
        </p:blipFill>
        <p:spPr>
          <a:xfrm>
            <a:off x="1353960" y="4886280"/>
            <a:ext cx="36072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1157400" y="1052640"/>
            <a:ext cx="6829200" cy="33242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2"/>
          <a:stretch/>
        </p:blipFill>
        <p:spPr>
          <a:xfrm>
            <a:off x="1413000" y="1046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1400040" y="27273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4:16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